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525-2681-4C86-87D0-47B76F20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AB2-6189-42D7-8CD1-6FDB1085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2A2-64C4-4E8B-81EB-6944981A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5AF-1A11-42C6-B53E-004F3E0B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F50E-ABDC-461D-AA32-A80F6553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190B-2462-4935-B8CE-2B1AA12D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4F21-0364-4B11-9789-28647B3B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7136-0E25-46FD-BF82-A76C614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1ED-F90D-401E-AA17-D5EE060C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D9E-4992-4D10-95AB-9B6122E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CE8B-3CEE-4168-81C6-1DC17CD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8F5-C228-4A65-A2D1-142A958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98EA-45EB-473B-95B6-998EDE5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D044-AFCF-45DF-8585-4A4A15A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EC49-F557-4A3F-A7F1-9B712DD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8061-97A2-46BF-98DE-80B27955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C4FA-E13A-4BE9-A97C-ED9FB9AA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3CD-FAD9-4BD8-B663-66D1ECE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04E-E5A1-4D96-85FA-BD5A271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383-0B08-4269-884E-93562FC6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32B-A0D6-4A91-9500-C2A4DA76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DFA-B333-4B27-B098-F322480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8CC-7FA6-4F91-9D3F-F5F9477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E2C-7675-4900-AD0A-F241CB4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777-3BC4-47D5-8965-5D755DD60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A5E-D04B-4339-A38E-2388B16132E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4000" y="980640"/>
            <a:ext cx="4321080" cy="64764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The Number Line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92360" y="1773360"/>
            <a:ext cx="7010280" cy="457200"/>
            <a:chOff x="1692360" y="1773360"/>
            <a:chExt cx="7010280" cy="457200"/>
          </a:xfrm>
        </p:grpSpPr>
        <p:sp>
          <p:nvSpPr>
            <p:cNvPr id="84" name=""/>
            <p:cNvSpPr/>
            <p:nvPr/>
          </p:nvSpPr>
          <p:spPr>
            <a:xfrm>
              <a:off x="1692360" y="2001960"/>
              <a:ext cx="701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768320" y="1773360"/>
              <a:ext cx="3276720" cy="457200"/>
              <a:chOff x="1768320" y="1773360"/>
              <a:chExt cx="3276720" cy="4572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673440" y="1773360"/>
                <a:ext cx="1371600" cy="457200"/>
                <a:chOff x="3673440" y="1773360"/>
                <a:chExt cx="1371600" cy="4572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0450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1306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6734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878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768320" y="1773360"/>
                <a:ext cx="1371600" cy="457200"/>
                <a:chOff x="1768320" y="1773360"/>
                <a:chExt cx="1371600" cy="4572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1399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2255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7683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6827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5502240" y="1773360"/>
              <a:ext cx="3047760" cy="457200"/>
              <a:chOff x="5502240" y="1773360"/>
              <a:chExt cx="3047760" cy="4572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7274160" y="1773360"/>
                <a:ext cx="1275840" cy="457200"/>
                <a:chOff x="7274160" y="1773360"/>
                <a:chExt cx="1275840" cy="4572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55000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6993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27416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2448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502240" y="1773360"/>
                <a:ext cx="1275840" cy="457200"/>
                <a:chOff x="5502240" y="1773360"/>
                <a:chExt cx="1275840" cy="457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77808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92740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022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35256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7" name=""/>
          <p:cNvSpPr/>
          <p:nvPr/>
        </p:nvSpPr>
        <p:spPr>
          <a:xfrm>
            <a:off x="4876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2209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2209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276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number line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886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s go before the z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800600"/>
            <a:ext cx="5867280" cy="8254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now going to use the number line to carry out some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60280"/>
            <a:ext cx="8064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itive and Negativ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dding and Subtracting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3880" y="1752480"/>
            <a:ext cx="7239240" cy="916920"/>
            <a:chOff x="1523880" y="1752480"/>
            <a:chExt cx="7239240" cy="916920"/>
          </a:xfrm>
        </p:grpSpPr>
        <p:grpSp>
          <p:nvGrpSpPr>
            <p:cNvPr id="129" name=""/>
            <p:cNvGrpSpPr/>
            <p:nvPr/>
          </p:nvGrpSpPr>
          <p:grpSpPr>
            <a:xfrm>
              <a:off x="1676520" y="1752480"/>
              <a:ext cx="7010280" cy="457200"/>
              <a:chOff x="1676520" y="1752480"/>
              <a:chExt cx="7010280" cy="457200"/>
            </a:xfrm>
          </p:grpSpPr>
          <p:sp>
            <p:nvSpPr>
              <p:cNvPr id="130" name=""/>
              <p:cNvSpPr/>
              <p:nvPr/>
            </p:nvSpPr>
            <p:spPr>
              <a:xfrm>
                <a:off x="1676520" y="1981080"/>
                <a:ext cx="7010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752480" y="1752480"/>
                <a:ext cx="3276720" cy="457200"/>
                <a:chOff x="1752480" y="1752480"/>
                <a:chExt cx="3276720" cy="45720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3657600" y="1752480"/>
                  <a:ext cx="1371600" cy="457200"/>
                  <a:chOff x="3657600" y="1752480"/>
                  <a:chExt cx="1371600" cy="4572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0292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1148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6576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720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1752480" y="1752480"/>
                  <a:ext cx="1371600" cy="457200"/>
                  <a:chOff x="1752480" y="1752480"/>
                  <a:chExt cx="1371600" cy="4572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1240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2096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7524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6668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5486400" y="1752480"/>
                <a:ext cx="3047760" cy="457200"/>
                <a:chOff x="5486400" y="1752480"/>
                <a:chExt cx="3047760" cy="45720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7258320" y="1752480"/>
                  <a:ext cx="1275840" cy="457200"/>
                  <a:chOff x="7258320" y="1752480"/>
                  <a:chExt cx="1275840" cy="4572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853416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6834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25832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10864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486400" y="1752480"/>
                  <a:ext cx="1275840" cy="457200"/>
                  <a:chOff x="5486400" y="1752480"/>
                  <a:chExt cx="1275840" cy="457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676224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1156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4864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33672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3" name=""/>
            <p:cNvSpPr/>
            <p:nvPr/>
          </p:nvSpPr>
          <p:spPr>
            <a:xfrm>
              <a:off x="48769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4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438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46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18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34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54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23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38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00200" y="2895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going to use the number line above to calculate the sum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733920"/>
            <a:ext cx="13716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1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11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Start at the numb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96080" y="2590920"/>
            <a:ext cx="0" cy="3045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572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o subtract go left from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800600" y="1295280"/>
            <a:ext cx="2438280" cy="459720"/>
            <a:chOff x="4800600" y="1295280"/>
            <a:chExt cx="2438280" cy="459720"/>
          </a:xfrm>
        </p:grpSpPr>
        <p:sp>
          <p:nvSpPr>
            <p:cNvPr id="175" name=""/>
            <p:cNvSpPr/>
            <p:nvPr/>
          </p:nvSpPr>
          <p:spPr>
            <a:xfrm flipH="1">
              <a:off x="6324480" y="1498320"/>
              <a:ext cx="914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1295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82880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Move 10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31484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9339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40044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195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6383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1811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7239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667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335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763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5562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Now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5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1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6095880"/>
            <a:ext cx="914400" cy="459720"/>
          </a:xfrm>
          <a:prstGeom prst="rect">
            <a:avLst/>
          </a:prstGeom>
          <a:solidFill>
            <a:srgbClr val="d54f41"/>
          </a:solidFill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286000"/>
            <a:ext cx="533520" cy="304920"/>
          </a:xfrm>
          <a:prstGeom prst="rect">
            <a:avLst/>
          </a:prstGeom>
          <a:solidFill>
            <a:srgbClr val="d54f4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solidFill>
            <a:srgbClr val="339933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dding &amp; Subtracting Exampl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71600" y="1143000"/>
            <a:ext cx="7238520" cy="916920"/>
            <a:chOff x="1371600" y="1143000"/>
            <a:chExt cx="7238520" cy="916920"/>
          </a:xfrm>
        </p:grpSpPr>
        <p:grpSp>
          <p:nvGrpSpPr>
            <p:cNvPr id="195" name=""/>
            <p:cNvGrpSpPr/>
            <p:nvPr/>
          </p:nvGrpSpPr>
          <p:grpSpPr>
            <a:xfrm>
              <a:off x="1523880" y="1143000"/>
              <a:ext cx="7009920" cy="457200"/>
              <a:chOff x="1523880" y="1143000"/>
              <a:chExt cx="7009920" cy="457200"/>
            </a:xfrm>
          </p:grpSpPr>
          <p:sp>
            <p:nvSpPr>
              <p:cNvPr id="196" name=""/>
              <p:cNvSpPr/>
              <p:nvPr/>
            </p:nvSpPr>
            <p:spPr>
              <a:xfrm>
                <a:off x="1523880" y="1371600"/>
                <a:ext cx="7009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599480" y="1143000"/>
                <a:ext cx="3276000" cy="457200"/>
                <a:chOff x="1599480" y="1143000"/>
                <a:chExt cx="3276000" cy="45720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3504240" y="1143000"/>
                  <a:ext cx="1371240" cy="457200"/>
                  <a:chOff x="3504240" y="1143000"/>
                  <a:chExt cx="1371240" cy="4572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875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9610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5042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4182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599480" y="1143000"/>
                  <a:ext cx="1371240" cy="457200"/>
                  <a:chOff x="1599480" y="1143000"/>
                  <a:chExt cx="1371240" cy="457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970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56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599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5135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5333400" y="1143000"/>
                <a:ext cx="3047400" cy="457200"/>
                <a:chOff x="5333400" y="1143000"/>
                <a:chExt cx="3047400" cy="4572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7105320" y="1143000"/>
                  <a:ext cx="1275480" cy="457200"/>
                  <a:chOff x="7105320" y="1143000"/>
                  <a:chExt cx="1275480" cy="4572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83808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530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105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556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5333400" y="1143000"/>
                  <a:ext cx="1275480" cy="457200"/>
                  <a:chOff x="5333400" y="1143000"/>
                  <a:chExt cx="1275480" cy="457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6088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75856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3334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183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9" name=""/>
            <p:cNvSpPr/>
            <p:nvPr/>
          </p:nvSpPr>
          <p:spPr>
            <a:xfrm>
              <a:off x="47242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86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5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67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39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11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0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92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07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5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3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28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96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84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160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23880" y="1981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514600"/>
            <a:ext cx="15238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+ 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3200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t what number  do you st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1523880"/>
            <a:ext cx="457200" cy="457200"/>
          </a:xfrm>
          <a:prstGeom prst="rect">
            <a:avLst/>
          </a:prstGeom>
          <a:solidFill>
            <a:srgbClr val="727de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3124080"/>
            <a:ext cx="4572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3733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o add do you move left or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57600" y="762120"/>
            <a:ext cx="1828800" cy="459720"/>
            <a:chOff x="3657600" y="762120"/>
            <a:chExt cx="1828800" cy="459720"/>
          </a:xfrm>
        </p:grpSpPr>
        <p:sp>
          <p:nvSpPr>
            <p:cNvPr id="242" name=""/>
            <p:cNvSpPr/>
            <p:nvPr/>
          </p:nvSpPr>
          <p:spPr>
            <a:xfrm>
              <a:off x="3657600" y="990720"/>
              <a:ext cx="38088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1120" y="762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3733920"/>
            <a:ext cx="1067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4419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How many squares do you mo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133720"/>
            <a:ext cx="3812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419720"/>
            <a:ext cx="6858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1814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The answer to the s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+ 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5715000"/>
            <a:ext cx="76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1676520"/>
            <a:ext cx="533520" cy="380880"/>
          </a:xfrm>
          <a:prstGeom prst="rect">
            <a:avLst/>
          </a:prstGeom>
          <a:solidFill>
            <a:srgbClr val="ffff66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dding &amp; Subtracting Exampl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1143000"/>
            <a:ext cx="7238520" cy="916920"/>
            <a:chOff x="1371600" y="1143000"/>
            <a:chExt cx="7238520" cy="916920"/>
          </a:xfrm>
        </p:grpSpPr>
        <p:grpSp>
          <p:nvGrpSpPr>
            <p:cNvPr id="259" name=""/>
            <p:cNvGrpSpPr/>
            <p:nvPr/>
          </p:nvGrpSpPr>
          <p:grpSpPr>
            <a:xfrm>
              <a:off x="1523880" y="1143000"/>
              <a:ext cx="7009920" cy="457200"/>
              <a:chOff x="1523880" y="1143000"/>
              <a:chExt cx="700992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23880" y="1371600"/>
                <a:ext cx="7009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1599480" y="1143000"/>
                <a:ext cx="3276000" cy="457200"/>
                <a:chOff x="1599480" y="1143000"/>
                <a:chExt cx="3276000" cy="45720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504240" y="1143000"/>
                  <a:ext cx="1371240" cy="457200"/>
                  <a:chOff x="3504240" y="1143000"/>
                  <a:chExt cx="1371240" cy="4572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875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9610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5042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4182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1599480" y="1143000"/>
                  <a:ext cx="1371240" cy="457200"/>
                  <a:chOff x="1599480" y="1143000"/>
                  <a:chExt cx="1371240" cy="457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970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56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599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5135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333400" y="1143000"/>
                <a:ext cx="3047400" cy="457200"/>
                <a:chOff x="5333400" y="1143000"/>
                <a:chExt cx="3047400" cy="45720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7105320" y="1143000"/>
                  <a:ext cx="1275480" cy="457200"/>
                  <a:chOff x="7105320" y="1143000"/>
                  <a:chExt cx="1275480" cy="4572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3808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30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105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556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5333400" y="1143000"/>
                  <a:ext cx="1275480" cy="457200"/>
                  <a:chOff x="5333400" y="1143000"/>
                  <a:chExt cx="1275480" cy="4572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66088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75856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3334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183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3" name=""/>
            <p:cNvSpPr/>
            <p:nvPr/>
          </p:nvSpPr>
          <p:spPr>
            <a:xfrm>
              <a:off x="47242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14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86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195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767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39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1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720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292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07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335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763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28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4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160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981080" y="2590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3124080"/>
            <a:ext cx="15238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3886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what number do you st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676520"/>
            <a:ext cx="457200" cy="457200"/>
          </a:xfrm>
          <a:prstGeom prst="rect">
            <a:avLst/>
          </a:prstGeom>
          <a:solidFill>
            <a:srgbClr val="727de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teps do you mo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580920" y="19810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00040" y="19810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666520" y="19810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5410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omplete the su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3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1676520"/>
            <a:ext cx="457200" cy="533160"/>
          </a:xfrm>
          <a:prstGeom prst="rect">
            <a:avLst/>
          </a:prstGeom>
          <a:solidFill>
            <a:srgbClr val="727de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6019920"/>
            <a:ext cx="609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questions below yoursel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6 –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2 + 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– 5 + 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4 +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–1 – 6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7 – 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242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 – 7 + 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 – 6 + 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– 2 – 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– 2 + 7 –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9810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27432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5053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426708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18148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19810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7432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5812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43434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510552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294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771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3500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9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45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7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1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3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4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6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7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9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Goes In The Box ?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914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se questions using a bigger number line if requi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12 – 1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32 + 2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– 35 + 4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14 +2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–18 – 52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72 – 12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 – 34 + 5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 – 36 + 2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– 42 – 5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– 29 + 73 – 89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19051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27432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5320" y="35053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42670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5320" y="52578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190512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27432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35053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43434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67480" y="50292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9000"/>
                            </p:stCondLst>
                            <p:childTnLst>
                              <p:par>
                                <p:cTn id="68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4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7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1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30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45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6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900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goes In The Box ? 3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066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backwards here to work out the miss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– 6 +        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       +   10      = 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12   –          =  –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       –   14     =  –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22  –          =  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205740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297180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96252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571500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6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500"/>
                            </p:stCondLst>
                            <p:childTnLst>
                              <p:par>
                                <p:cTn id="8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5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25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9500"/>
                            </p:stCondLst>
                            <p:childTnLst>
                              <p:par>
                                <p:cTn id="86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0:50:56Z</dcterms:created>
  <dc:creator>LT Scotland</dc:creator>
  <dc:description/>
  <dc:language>en-US</dc:language>
  <cp:lastModifiedBy>LTS</cp:lastModifiedBy>
  <dcterms:modified xsi:type="dcterms:W3CDTF">2004-08-06T13:30:03Z</dcterms:modified>
  <cp:revision>36</cp:revision>
  <dc:subject/>
  <dc:title>Positive and Negative Numbers 1</dc:title>
</cp:coreProperties>
</file>